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E6F-8AA3-41B2-B9D2-4A7B921C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C06-94C6-4C99-84F0-05446C5D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28C-523B-42BA-A88C-F7488FF8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546-7511-44DD-A6F7-34657616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4F8-CE8C-4091-BAB7-19382D98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3F2-7177-4E5B-9D4B-97581F0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F40-FA9A-495D-91D4-E311124C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BF3-829E-49B4-B2AB-002A8733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516-0ECF-49F6-AE14-D46D94B1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0A0-5DEA-4271-9642-CCA3553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4ED-14D9-4F4F-A069-B55321B7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A84-97A7-415C-903F-5FBEEDBE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DD76-13F0-4D3B-8AF9-9940E841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T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odya Sergiievsk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57400" y="1219320"/>
          <a:ext cx="396252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39625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095880" y="2209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: OW-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5181480" y="18284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56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.9e9 Pa = 19102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429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3733920"/>
          <a:ext cx="288936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28893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20400" y="495288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3e9 Pa = 30479 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81480" y="3886200"/>
          <a:ext cx="127980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886200"/>
                    <a:ext cx="12798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4120" y="4800600"/>
            <a:ext cx="2819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Oxy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=3.16 Ang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ilon = 0.15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face tension and Tolman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114800" cy="304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152388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C=109.9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=78.9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 = 74.8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/Air 25C: 71.9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828800" y="5181480"/>
          <a:ext cx="18144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5181480"/>
                    <a:ext cx="1814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133720" y="4419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ma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76360" y="48006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876920" y="4114800"/>
          <a:ext cx="219852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114800"/>
                    <a:ext cx="21985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48320" y="5486400"/>
          <a:ext cx="295596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486400"/>
                    <a:ext cx="29559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man length in S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1447920"/>
          <a:ext cx="628632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47920"/>
                    <a:ext cx="62863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76720" y="2286000"/>
          <a:ext cx="419076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286000"/>
                    <a:ext cx="41907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295280" y="2971800"/>
          <a:ext cx="2505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971800"/>
                    <a:ext cx="25052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371600" y="3733920"/>
          <a:ext cx="3578400" cy="46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733920"/>
                    <a:ext cx="35784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-N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0" y="380988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9372600" cy="1597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at-Ha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4913" t="5183" r="7616" b="-1022"/>
          <a:stretch/>
        </p:blipFill>
        <p:spPr>
          <a:xfrm>
            <a:off x="609480" y="12193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6280" y="2362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6781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0:49:24Z</dcterms:created>
  <dc:creator>voovrat</dc:creator>
  <dc:description/>
  <dc:language>en-US</dc:language>
  <cp:lastModifiedBy>voovrat</cp:lastModifiedBy>
  <dcterms:modified xsi:type="dcterms:W3CDTF">2010-01-25T08:53:24Z</dcterms:modified>
  <cp:revision>6</cp:revision>
  <dc:subject/>
  <dc:title>SPT calculations</dc:title>
</cp:coreProperties>
</file>